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E03-D7D8-47BE-8540-F4BF707A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E75-D54A-4721-9057-8B80164A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15B19-9E73-4418-8D3D-0B880C65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5F8D3-E97B-4106-8240-1DBF9030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52245-3529-4E35-AC1F-F78AA6CE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3A6B1-0B4E-4271-810E-BE06282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7616D-68B4-4544-B96C-1C0DBD9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A91A7-FBC9-4EF0-A17D-6A457AD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51766-55F3-4D9B-9298-9AB1E85F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E876F-9487-42D8-84A4-BF8809B9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6478F-3226-43C7-BAF8-3E7DE627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DF346-9BC8-4AC8-90CB-83F52D28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C92-8A4C-4950-B26C-3F278F46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50E2B-60BD-481D-99B8-5E06E026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B6556-B29D-4D73-A640-4B1141E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15E54-1516-41C2-9C7F-33D1F44A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62CC4-4720-43B1-9F75-C24BC977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319CF-F7F4-43A3-BEC0-3CFF2DC4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E55E0-1530-447D-AE21-545740C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F1510-466C-4E70-9385-DB0D2368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755CF-F319-4BB5-9538-DD5CD1E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2C30C-F230-455B-9487-12A4ED7C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2E79D-9156-44EB-B2DD-22DE0947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1FC-F371-4FEB-B87C-B6C4E3F5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E2560-4A5D-4271-A658-8DC406D2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28CA0-BE51-47A8-9536-9F50F5E9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43F11-E79A-4C9E-994C-81B96019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39F89-DC34-4652-B11D-3B1E77E2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5F84B-98A8-425A-9959-C967FC8C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7BD35-0705-4988-A54F-5F4492AC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2F205-2920-4CC9-BEA7-82E1F173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B4271-F573-4CBB-B46C-DBAACBA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6A8FC-5D93-4D61-BF07-B7CD75AC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49AA2-A6C0-4EB5-BCCF-0729BC8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80FB-6C54-4BC3-9D8C-24DB9C88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57F69-7E39-40E7-B2AC-9D37D424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DD2D4-B9CC-4A52-ADA1-9C422391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F1BF1-C786-4110-8F5E-1EDBE943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F0D27-A609-43B7-A169-2C10ED5C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A9BC8-5011-47F0-8CD1-B4E81FD3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67014-6AAA-42D9-89B8-9D3D31C2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CBDD1-DD55-4E27-9A5E-6819547C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7C1D1-0FF6-48D3-B6A4-87A10A9D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3A707-950E-4088-97D6-2EE47DA8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1BA41-4925-4206-86F7-716D554A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D989-CADA-4364-97AA-BD6AB1BF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9F4D5-EDB6-479F-BF10-CC817636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A90CB-9768-4A5C-9482-02A7ED7D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7338B-0662-41CF-ACBD-E73F43E9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76F09-DFC5-422A-8EF4-41CDD289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F377-05E1-4FD9-8295-93CA1A3A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2659E-0B86-40E4-BF89-BEE70DDC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EDC6F-E441-4A4B-9709-82EB4EBE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003D7-5CF7-4DDA-B3D4-6188E92C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2A5B7-B7E3-44E7-9B87-F491682D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2D462-0A04-4FE2-9802-72ED2F00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DDD2-E7A1-4932-91B8-5CF9145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8EDB4-49C1-46B8-BFA4-28F93D5F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F3AAD-9153-4851-8BE5-891A517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07C26-1702-4E59-A623-1846195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860D1-8696-450D-B259-22EBA459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33A1F-A613-4796-9EA2-0A1A1A06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C7206-39F5-4BE7-860D-264CAF75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56831-7A96-4F2A-A0F1-52D619ED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61D4C-76D6-459D-AB8C-960CEC59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7CC75-08FF-4A2E-A134-7BB287FB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9A765-F008-4D84-8154-E14F5F25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A457-DE30-4B6B-99A6-631A2C34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6FE66-866C-481B-B26E-D1D31C1F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31059-94B0-4FE1-9E5D-4F70E05B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F9E53-1D92-4C78-A5D3-A7E7E7D1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CD963-4B61-431A-A49B-4879D1AC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72CDB-BAF7-4409-A3EE-752AFAB0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A1827-01C6-4876-8962-762D1DD3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C6708-E9D6-4FB7-BEFB-B0F4CF1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08AC1-13F8-400E-82F7-9B815033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6C672-FD8F-43C5-87D5-3E1CF6E3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9CB33-46DD-4A49-9718-45773AAC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7636-73AA-4039-9FAA-2332D8F3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94C8C-F777-4558-BE5F-AC05FF1B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F37CC-842E-4D2A-A3D0-24A3F38A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91279-35D3-4C73-B7D3-C571747B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EFC2E-5C7A-4864-9BB4-AD6C86CE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2C67B-D8E4-4BA7-8CEB-A12BA65A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9992D-EDD2-402F-8AC4-38BCF1F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F3A12-68D9-4405-91F1-D5EB78F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F18DA-94B2-4583-B596-FF1D32E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30D84-30A4-429B-AB9D-15EF3136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7645F-85F6-4E63-96B3-4312692A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0708-7206-4948-8A01-1A33B665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8DCE5-488F-4290-808F-FBE8931B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1184A-552B-4492-8A8E-4ADF1709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DA707-1441-45E7-8F5E-288A84A5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FB5D8-AAEA-4BD1-9C54-65F30BAD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3E92B-B445-447C-927C-B4053B5A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E089B-8D38-4649-BB97-B6EA8F71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B8E18-E1F1-4097-BE71-B2A51DF8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F879D-5294-48D7-902B-900FE53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73C9C-E6EA-451D-87AF-8336D82E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811CF-E452-4FD0-B181-91600D27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0EDD-8246-4659-90E5-0DD5DC9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F9CDF-ED32-430E-8B37-9E641D4D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CD5AD-D9D7-491D-9B1C-CDD163AC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C5980-7441-4136-AC59-3E6271B9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77966-C5D0-4248-85AE-42216395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2123E-0E2F-4973-93AE-1F7F8C2E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F9461-D50F-4A54-B0F1-FC6F3BFD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B4148-967D-4E47-B2F0-94A920E4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F8102-8D82-4D3C-899C-4311404C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A83C5-61CB-4444-892E-ADA5F05E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B56D2-6E07-44E4-92D3-D40A9848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75C-BC5A-456A-989A-F4C716DC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68F-B427-4B17-91BA-2E327D6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3772C-60F3-4111-8406-3B1A8B84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53B7F-C629-4EEC-B48D-AFD0C4D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F54AD-AB79-48AE-84CE-B7D0C31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502A3-EC27-4EE9-B0A5-7F941611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F0BAF-1D27-4542-BCDF-0BACFFEE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BB954-3141-40FE-BAE1-482C6A70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872B3-5E68-46D9-ABBF-DEAA308A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CB634-8F8C-4EF8-AA13-601AE4B8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9E625-A527-464D-8B1F-F78208A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FC458-9035-4C94-8FB2-7ED12C52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AD75-A46E-47AE-8025-6098748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59F58-C293-4743-BDDE-994534CF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C8D69-6785-4253-8BDB-7760385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7ED48-C2C7-4310-8E9E-3490EC7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78817-CF5B-40C0-9004-DA9FDCD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46952-1C5F-4CA5-B67B-8177CF9F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B37186-76FE-4FB4-B0E6-BC3ECD39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B2B8D-A55D-4D95-9E53-38B73EAC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8571F-4273-447E-A7CC-A3A35191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A60DF-D38B-4CE5-8812-28EA89CA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8EB5B-EF14-47F4-B65E-C4F131B8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014F-A94E-49DF-BB4A-960B4AB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11F77-9E3D-4BAA-95DA-BCDA15ED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6E5AEE-2F37-4DF7-B385-BA29C42C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21C0F-B481-4312-92F5-50E98119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7B2E6-D08C-4BD6-8964-782E7FA6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AA544-E1C1-44AB-AC54-78969633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238495-92EC-4D1A-867F-D07850B6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9D139-469A-48AC-8399-EAF8236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D273F-A523-4987-86C3-FF43A284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999D8-6C14-4D6F-B9E1-129E3A2D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C95D8-6655-432A-838D-564AFD8A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BF1D-9E24-49F7-A69B-12884CDE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9DA288-80C3-405F-942B-E8749C4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EEF6A-7244-4816-8D27-C0E127AD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6AD5A-B8F4-4D5A-BD6A-0B932557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79A480-0FE9-404C-BCEC-160A6D0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54270-3567-4E87-AE10-D5D18029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981B8F-5AA2-4C27-B759-A5BABA4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42648-72A0-432C-B4F5-65545F4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C5880-6C59-49EF-A3CE-5240F02B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E55000-6E56-49A0-8126-850EA7A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1A40E-21B7-4027-AD86-C0382BCD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3217-EF71-4A2D-8D07-3A8B6354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8222D0-DE04-4F23-99B7-E0F21CD6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9586C8-DF15-4309-B1D6-A5938C40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45F179-27A1-43F7-95CD-47D76583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DDA67F-A5FE-44D6-879C-289EDF83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7FBC8-4875-49CB-8AA5-1C950F32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873C0-E6B5-4C1B-8D60-95FC78B4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A406A-F41C-4290-9758-8A2D862E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EC3023-986F-4311-8AA1-5C9FFE8C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3B1BB-DF0E-425E-9A3C-ED4D010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B7742-92B4-4A53-810E-393D43E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4E98-DFCB-458C-94A2-791E6A36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6382F-A932-46FE-B685-625BF00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12D56-13A4-459D-BE35-B3EA297D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0C68A-EF01-4930-9242-B1E98B6F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325F-F32C-4A38-A803-8D4657E6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F9D3-F777-4DFB-BBB9-04F3CD86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4272-AE0A-4DC9-99B3-2C4D5564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E0CC-8518-46F0-B066-F527075C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50D-6ACE-4BE9-A6DB-FDE3A732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52DF-2FFB-440D-B40D-2DA1CF68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B546-36D5-4818-BA65-C0CF19FC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AC0F-98EA-42F8-98A0-58D3102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2787-6B9C-4A82-B0A6-D0B8998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4687-ECC8-43A0-9E3B-34B06DF2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FD7F-F6C2-4159-B459-71F882C0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AC8A-268E-423D-A1CD-18B2668E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F240-78CE-486A-A064-1DFDDE44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651D-4035-4F9A-844E-9FAD994E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9BD1-8DC5-45A5-A115-098BA1C9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BFF-60EA-437D-9BCC-80013BFE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52C9-7BEA-4FFC-A175-1D238946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6839-542F-45C7-9324-E8AD0CE9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48D5-7379-4E34-B443-E222FBE6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180B-0229-4137-AE93-3E956A2C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1A6E-155D-436E-8D25-DA30AF0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3775-70EE-4950-9D21-46BE7AA6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BCFE-61B3-4D29-8DBA-A4853191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93915-FC80-498D-B34F-36A3A1B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818B-AE88-433A-B302-E55261F7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424F-4D0A-46E6-90C6-E3D1E0A7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5F3-A874-4EAF-8D4E-8D4A3530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74271-6396-4C58-A69E-7833604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58AAC-1DB8-4FF2-B638-80D152E3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BC2B-CFB6-4711-BC7E-9D088DC0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3655-6BF3-4DD4-AE90-2FA7D040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0FA0-A345-47FD-B9A4-95DB6EE6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6B76-8537-48A4-85F5-A0A09FA2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A80A-3C4B-4F5C-94F2-E4AF01F2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91CA-8DF9-4530-8500-48C08B3F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9F6EA-D8EC-48D2-84E2-0B8BDA8D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7CD3-4AAC-4782-A8D0-7F4C004E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E24-5E18-4271-A439-D4C63395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C1B22-247B-49F8-AF70-CC2980D5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3AEA-5AFA-4759-9D84-E1C142B5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1746-31CF-4928-817D-E7A9E0B9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0FB0D-C81A-4211-A5B9-4D6FE6E7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10C64-FCF8-4B3B-800E-B7ACB910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ABE15-EA62-4094-BB6F-5E5BEF73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DB86D-3844-47DC-A933-F588C32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9ED9-D7D1-4FAC-817E-F0F0D0B9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807E1-C74B-4ABD-9454-C9E48114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29613-496E-4D7C-840E-3E651062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6C6-91A2-40F4-A033-5D26CC00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DBD9-8BD9-4EC7-835F-8E07F2EC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7D8C-9831-4B1C-A403-FA723D49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A12DE-DCE9-45AA-907D-18809EDA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2C239-B49A-4B8B-8F68-DDA4B850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D810-DED5-487F-8E1D-9C07FF42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1870-4F00-4A58-B8C5-C0F894A8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E6CF1-6394-4D65-8EF9-AE4D081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284E3-1486-429B-AF1B-D57D43CC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50B62-324E-4889-A27F-B0E77CBC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946C2-AE07-4788-9945-94EAC4F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258-3894-4AF9-AA67-D98B446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7944-E408-4B1E-AC3A-2773E3BF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7D94-1407-4EE7-A110-84A56137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C2D5F-3FD9-4EF4-B314-473385DD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9245-D407-41BC-B4B2-076C353A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A738-A729-40B4-AAA2-27FD7B8C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8273-32C9-42F5-8299-346482D9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F710-E625-4FEC-868B-F679F0CF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3A7B-2A5A-40EB-AB2C-3A4569C7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01B9F-5E97-49DB-B556-0B4AA72B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02FBD-B6A2-4E18-AD50-29A65EB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942-E83F-41D6-B8E5-ECC2778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058C0-40DC-4CA5-8B41-863E5150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D0EE2-B4CB-428E-B005-DE58676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3C383-5E42-4647-90BF-C42FCDE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C6924-8FDB-49D5-AAB4-37A89AC2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FBB71-853C-4661-A105-6C8BAE11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B5153-0E35-43DE-B237-18DB0BEC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9E54B-D6F9-4440-9ED6-8EB0ACBF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39F3E-F275-4D8C-897A-E0FFFD91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3B4AA-5D67-4925-8C2F-53842BF5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50E9D-D6FC-46B4-8A1A-64A2CEF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3C18-9C59-4573-A198-73726D651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40D5-044F-469D-911D-39DAAA267E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3532-9C14-47D1-90D3-96AD5D2EEB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65A5-1A2F-49EA-8A6F-FE94429E3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9943-973E-4332-83B5-D56D76A592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49C3-B4DA-42CB-815E-F01E0364B1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9C78-6DC8-4F7C-BF27-6D6573A559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4E9F-68A4-488E-A70F-61862391E0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17AB-FF47-441F-9E28-9F0580D0E7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8AA2-DC17-4278-ACCD-ADD8F2D07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F66F-3649-47D9-A99C-6F9938D0F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7EBE-27F6-459D-85D5-D8C34A9F4F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F34-76E2-4CCD-885B-B3B5719FE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BA52-4815-4064-8CCE-8A239EF1A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A3F4-A6F3-4622-A93F-8D6EC1943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1692-6FE9-476D-B372-90428D55D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651-75CA-4778-8184-D21C049313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812C-D4F1-4BBC-A2A9-F11AB4F695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A1EC-83C8-461C-A2A9-9C7D98D88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F39-F31E-4ED9-925E-82FF36552F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AB80-48F4-4679-849E-D19EC5F24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1D6E-7C1C-4965-8C17-3D7BD98C21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BCDE-944C-47EE-83E1-048957D36F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C554-F575-48DF-8BDA-E774DBA64A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C9D7-0974-41DF-A1D5-D8ED1051F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414-0614-4C3E-A94F-98BB9F941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70F-44C3-4D9F-BCD1-C4270A0497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2211-E34D-4EA7-97D4-0C70D630C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93D9-16F3-48EF-B535-EF8508345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D7A-06BC-4764-ADB5-30CABF6A4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CDA3-E9B9-4FB8-A178-B0284DD33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A61D-B295-4D46-AA2F-0EEB0105B4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167D-F7D6-46B6-80FA-0C37086B7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8D0-4BF3-4EF3-957E-0B77301EFC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0EF8-FD72-4AB9-BF54-0FBFBC82B8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F4AC-FEB0-4C0D-AF11-D5DCA35CD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D7A1-F81C-4BE0-B626-293040A58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5E11-4A08-406E-A6E5-9C7CB17938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8B5-0D41-4DC0-BB98-D17389AB25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89A-D11F-4F93-8727-32B5E1AD67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76360" y="3033720"/>
            <a:ext cx="4391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79200" y="1058760"/>
            <a:ext cx="8983800" cy="16938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79200" y="3200400"/>
            <a:ext cx="8106120" cy="29336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273320" y="2435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305928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4788000" y="2435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588000" y="2435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388360" y="2435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82692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521964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826920" y="4883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5148360" y="48974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14480" y="911160"/>
            <a:ext cx="7924680" cy="165744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2" descr=""/>
          <p:cNvPicPr/>
          <p:nvPr/>
        </p:nvPicPr>
        <p:blipFill>
          <a:blip r:embed="rId2"/>
          <a:stretch/>
        </p:blipFill>
        <p:spPr>
          <a:xfrm>
            <a:off x="114480" y="2738520"/>
            <a:ext cx="8915400" cy="31147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5076720" y="22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293040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09308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97164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900000" y="3156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90000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900000" y="4351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0"/>
          <a:stretch/>
        </p:blipFill>
        <p:spPr>
          <a:xfrm>
            <a:off x="900000" y="4738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1"/>
          <a:stretch/>
        </p:blipFill>
        <p:spPr>
          <a:xfrm>
            <a:off x="871560" y="514368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1:16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